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246-6A93-44E2-8B43-92345F7F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EB2-A65A-4055-BAF5-07ED70BF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7BB-F958-49EE-9C3C-22264209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6E8-CF1B-487A-A901-569440F0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B48-CFD6-4087-B861-6E1F7568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E8C4-E2ED-4817-82A8-F9566FE3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3A42-342D-4227-9E66-10BBACF6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7CC-8FB2-44BD-9A31-BD07461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3361-3902-4E97-94E5-2C4A6D9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64FB-929C-426B-A454-36E118C6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1F1A-D32D-409C-9689-5B24DEC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ED9-637A-4575-A950-FB6DBF66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3BB7-493D-4E5B-8081-AE3768D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A972-2D2D-4DB9-BECF-61C211C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8B93-4FEF-4D96-8D18-B5BC094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0B9F-BCBC-4770-B8E3-A060F7E4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0B38-722C-4831-8317-50E5A508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8F75-987F-495A-8176-5C997F2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BB0A-054A-4B32-9739-24CBA734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D7D4-BFB0-415E-A35B-4E68A38B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6397-A71D-4301-815E-52A3E83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FD5E-F7DE-4C7E-A88E-8211886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C87-6DC5-4627-9321-DC5EEF6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9895-10B0-417E-9DF3-265B95BA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11F0-1BE9-4603-8B13-F165A9E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B132-028D-43C0-B2B6-67CB6A03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3BBD-7842-4C4F-B72D-01D46043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C0FA-7AD2-48C9-B7B6-BA1092B4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77BA-F5AE-43C1-8168-9924F324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7415-4D3F-47E4-9CA6-A88A2F96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2134-6DFA-4F88-A0A8-3DB7345F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C339-C5B2-44DF-85A0-7C3C1F2F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D197-CEBF-4B9E-96A5-381B9FB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30A-2C89-4116-96D3-4F4945A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D991-74E5-4171-B0B2-1918541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93E03-89BF-474F-90FF-D1B5E55F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2F28-ABED-4823-A1A5-C658C8EE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6F56-FB6D-4C06-A74E-A45A431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B905-6B97-411E-AC9D-60C264D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A231-D802-472C-B77B-39891A4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CB42-8CB8-40D6-A8F5-4BCB1E0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C860-D061-4FD3-998A-188D95E9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4758-C4E3-4246-964E-A2BA51F7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94D-3818-4283-BA28-C644F24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996-CC9A-4CF3-83ED-14DFA224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DB0-C860-496E-B5D8-6C356FA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215-9E26-4A0F-9220-52826B7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52D-92AB-48EF-A055-DEA1310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5A00-23D1-4D37-AB6B-527532C5F3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9C4-4A31-453C-AAF9-E450B46CD6A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AB26-C871-431F-8468-3C93CF30BB9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BD8-0AD8-4BD6-8DBA-2C3DF30A19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573120"/>
            <a:ext cx="7851600" cy="3181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2762280" cy="1657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4"/>
          <a:stretch/>
        </p:blipFill>
        <p:spPr>
          <a:xfrm>
            <a:off x="3348000" y="486900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нятие трудового потенциал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рудовой потенциал работн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овокупность качеств человека, определяющих возможность и границы его участия в трудовой деятельности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зраст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ое и психическое здоровье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ые характеристи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еобразовательная и профессиональная подготовк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особность профессионального рост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ношение к труду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аж работы по специа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мейное полож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Рисунок 3" descr="44.jpeg"/>
          <p:cNvPicPr/>
          <p:nvPr/>
        </p:nvPicPr>
        <p:blipFill>
          <a:blip r:embed="rId1"/>
          <a:stretch/>
        </p:blipFill>
        <p:spPr>
          <a:xfrm>
            <a:off x="6215040" y="4286160"/>
            <a:ext cx="24289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0040" y="85680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дна из первых попыток разграничить понятия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«трудовых ресурсов»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«трудового потенциала»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надлежит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.Г. Костаков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довой потенциал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это запасы труда, которые зависят от общей численности трудовых ресурсов и их структуры по полу и возрасту, накопленных знаний, степени соответствия демографической структуры работающих условиям повышения эффективности труда, социальной мобильност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Трудовой потенциал работника включает в себя: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сихофизиологический потенциа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способности и склонности человека, состояние его здоровья, работоспособность, выносливость, тип нервной системы и т.п.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валификационный потенциа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объем, глубину и разносторонность общих и специальных знаний, трудовых навыков и умений, обусловливающий способность работника к труду определенного содержания и слож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ичностный потенциа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уровень гражданского сознания и социальной зрелости, степень усвоения работником норм отношения к труду, ценностные ориентации, интересы, потребности и запросы в сфере труда, исходя из иерархии потребностей челове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ирамида Маслоу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азывает, что чем организованнее, мотивированнее человек, тем выше его трудовой потенциа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Рисунок 4" descr="image340.bmp"/>
          <p:cNvPicPr/>
          <p:nvPr/>
        </p:nvPicPr>
        <p:blipFill>
          <a:blip r:embed="rId1"/>
          <a:stretch/>
        </p:blipFill>
        <p:spPr>
          <a:xfrm>
            <a:off x="714240" y="2071800"/>
            <a:ext cx="7631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вод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довой потенциал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характеризуется не степенью подготовленности работника в настоящий момент к занятию той или иной должности, а его возможностями в долгосрочной перспективе - с учетом возраста, образования, практического опыта, деловых качеств, уровня мотиваци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Рисунок 3" descr="12.jpeg"/>
          <p:cNvPicPr/>
          <p:nvPr/>
        </p:nvPicPr>
        <p:blipFill>
          <a:blip r:embed="rId1"/>
          <a:stretch/>
        </p:blipFill>
        <p:spPr>
          <a:xfrm>
            <a:off x="5572080" y="3929040"/>
            <a:ext cx="2533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Значение качества рабочей силы для экономического роста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8760" y="189072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чество рабочей сил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это совокупность свойств человека, проявляющихся в процессе труда и включающих в себя квалификационный комплекс и трудовую активность работни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Рисунок 3" descr="55.jpeg"/>
          <p:cNvPicPr/>
          <p:nvPr/>
        </p:nvPicPr>
        <p:blipFill>
          <a:blip r:embed="rId1"/>
          <a:stretch/>
        </p:blipFill>
        <p:spPr>
          <a:xfrm>
            <a:off x="5429160" y="4357800"/>
            <a:ext cx="2786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Компоненты качества рабочей силы: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бъем общеобразовательной подготовки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ровень общей культур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ровень профессионализма и квалификации (специальных знаний и умений, компетентности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личный опыт и навыки работ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равственная надежно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57120" y="103320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ой экономической характеристикой качества ресурсов является их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изводи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лияющая на уровень жизни в стран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одительность труд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количество товаров и услуг, создаваемых работником за один час рабочего времен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3" descr="54.jpeg"/>
          <p:cNvPicPr/>
          <p:nvPr/>
        </p:nvPicPr>
        <p:blipFill>
          <a:blip r:embed="rId1"/>
          <a:stretch/>
        </p:blipFill>
        <p:spPr>
          <a:xfrm>
            <a:off x="5715000" y="4500720"/>
            <a:ext cx="25574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м больше товаров и услуг производит каждый рабочий в час, тем выше производительность труда и тем больше реальный ВВП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м выше реальный ВВП, тем выше уровень жизни, уровень благосостоя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3" descr="444.jpeg"/>
          <p:cNvPicPr/>
          <p:nvPr/>
        </p:nvPicPr>
        <p:blipFill>
          <a:blip r:embed="rId1"/>
          <a:stretch/>
        </p:blipFill>
        <p:spPr>
          <a:xfrm>
            <a:off x="5357880" y="3000240"/>
            <a:ext cx="2357280" cy="1857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77.jpeg"/>
          <p:cNvPicPr/>
          <p:nvPr/>
        </p:nvPicPr>
        <p:blipFill>
          <a:blip r:embed="rId2"/>
          <a:stretch/>
        </p:blipFill>
        <p:spPr>
          <a:xfrm>
            <a:off x="785880" y="30718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еловеческий капита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уровень квалификации работника, включая его образование, опыт работы, врожденные способности и талан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, образовательный уровень позитивно влияет на эффективность производства и процессов обучения, повышая восприимчивость работников к новым технологиям, ноу-хау и т. 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3" descr="88888.jpeg"/>
          <p:cNvPicPr/>
          <p:nvPr/>
        </p:nvPicPr>
        <p:blipFill>
          <a:blip r:embed="rId1"/>
          <a:stretch/>
        </p:blipFill>
        <p:spPr>
          <a:xfrm>
            <a:off x="4643280" y="3500280"/>
            <a:ext cx="3722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712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Понятие трудовых ресурсов и трудового потенциа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Значение качества рабочей силы для экономического ро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 Состояние занятости рабочей силы и ее структуры в Ро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Анализ факторов, влияющих на качество рабочей си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) Индекс человеческого развития. Его показатели и расчеты в национальной экономи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овременных условиях выигрывает та экономическая система, которая обладает наивысшей производительностью труда за счет использования высококвалифицированной рабочей силы, новейших технологий и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Рисунок 3" descr="777.jpeg"/>
          <p:cNvPicPr/>
          <p:nvPr/>
        </p:nvPicPr>
        <p:blipFill>
          <a:blip r:embed="rId1"/>
          <a:stretch/>
        </p:blipFill>
        <p:spPr>
          <a:xfrm>
            <a:off x="5214960" y="3643200"/>
            <a:ext cx="3357720" cy="2573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i.jpeg"/>
          <p:cNvPicPr/>
          <p:nvPr/>
        </p:nvPicPr>
        <p:blipFill>
          <a:blip r:embed="rId2"/>
          <a:stretch/>
        </p:blipFill>
        <p:spPr>
          <a:xfrm>
            <a:off x="857160" y="3714840"/>
            <a:ext cx="271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нятие трудовых ресурс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 ресурс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ономически активная, трудоспособная часть населения, обладающая физическими и духовными способностями к участию в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 ресурс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ь населения страны, которая по физическому развитию, приобретенному образованию, профессионально-квалификационному уровню способна заниматься общественно полезной деятельност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5.jpeg"/>
          <p:cNvPicPr/>
          <p:nvPr/>
        </p:nvPicPr>
        <p:blipFill>
          <a:blip r:embed="rId1"/>
          <a:stretch/>
        </p:blipFill>
        <p:spPr>
          <a:xfrm>
            <a:off x="5000760" y="4714920"/>
            <a:ext cx="2928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первые термин "трудовые ресурсы"  сформулировал академик С.Г. Струмилин в 1922 году и утверждал, что трудовые ресурсы - это планово-учетная категория, характеризующая часть населения, которая находится в трудоспособном возрасте и обладает необходимым физическим развитием, умственными способностями и знаниями, а в зарубежной литературе этому понятию соответствует термин «человеческие ресурс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3" descr="200px-Peter_Mikhailovich_StrumiloPetrushkevich.jpg"/>
          <p:cNvPicPr/>
          <p:nvPr/>
        </p:nvPicPr>
        <p:blipFill>
          <a:blip r:embed="rId1"/>
          <a:stretch/>
        </p:blipFill>
        <p:spPr>
          <a:xfrm>
            <a:off x="7236000" y="4149720"/>
            <a:ext cx="17301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5712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Трудовые ресурсы включают в себя 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занятое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незанятое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в экономике трудоспособное население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рудоспособное население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это совокупность лиц, способных по своим психофизическим данным к участию в производственном процесс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4" descr="68.jpeg"/>
          <p:cNvPicPr/>
          <p:nvPr/>
        </p:nvPicPr>
        <p:blipFill>
          <a:blip r:embed="rId1"/>
          <a:stretch/>
        </p:blipFill>
        <p:spPr>
          <a:xfrm>
            <a:off x="6643800" y="4786200"/>
            <a:ext cx="2071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55667.jpeg"/>
          <p:cNvPicPr/>
          <p:nvPr/>
        </p:nvPicPr>
        <p:blipFill>
          <a:blip r:embed="rId1"/>
          <a:stretch/>
        </p:blipFill>
        <p:spPr>
          <a:xfrm>
            <a:off x="7000920" y="2071800"/>
            <a:ext cx="2000160" cy="1857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В зависимости от возраста население делится на три группы: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712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ца моложе трудоспособного возраста (от рождения до 15 лет включительно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ца в трудоспособном возраст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женщины от 16 до 54 лет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ужчины от 16 до 59 лет включительно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ца старше трудоспособного, т.е. пенсионного возраста (женщины с 55, мужчины с 60 лет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К трудовым ресурсам относятся: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584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) население в трудоспособном возрасте (за исключением инвалидов войны и труда I и II групп и неработающих лиц, получающих пенсии на льготных условиях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) работающие лица пенсионного возраст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) работающие подростки в возрасте до 16 ле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4" descr="897.jpeg"/>
          <p:cNvPicPr/>
          <p:nvPr/>
        </p:nvPicPr>
        <p:blipFill>
          <a:blip r:embed="rId1"/>
          <a:stretch/>
        </p:blipFill>
        <p:spPr>
          <a:xfrm>
            <a:off x="6929280" y="2500200"/>
            <a:ext cx="2000520" cy="1476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896.jpeg"/>
          <p:cNvPicPr/>
          <p:nvPr/>
        </p:nvPicPr>
        <p:blipFill>
          <a:blip r:embed="rId2"/>
          <a:stretch/>
        </p:blipFill>
        <p:spPr>
          <a:xfrm>
            <a:off x="4929120" y="5000760"/>
            <a:ext cx="2071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казатели трудовых ресурс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712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несписочная и среднегодовая численность работников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эффициент текучести кадров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ля работников, имеющих высшее и среднее специальное образ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ний стаж работы по отдельным категориям работни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ля работников отдельных категорий в общей их числен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обеспеченности предприятия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рудовыми ресурсам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эффективности их использования зависят объем и своевременность выполнения всех работ, эффективность использования оборудования, машин, механизмов, и как результат - объем производства продукции, ее себестоимость, прибыль и ряд других экономических показате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Рисунок 3" descr="0.jpeg"/>
          <p:cNvPicPr/>
          <p:nvPr/>
        </p:nvPicPr>
        <p:blipFill>
          <a:blip r:embed="rId1"/>
          <a:stretch/>
        </p:blipFill>
        <p:spPr>
          <a:xfrm>
            <a:off x="4143240" y="785880"/>
            <a:ext cx="2286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18:48Z</dcterms:created>
  <dc:creator>Олененок</dc:creator>
  <dc:description/>
  <dc:language>en-US</dc:language>
  <cp:lastModifiedBy>Светлана</cp:lastModifiedBy>
  <dcterms:modified xsi:type="dcterms:W3CDTF">2020-08-23T23:19:37Z</dcterms:modified>
  <cp:revision>40</cp:revision>
  <dc:subject/>
  <dc:title>Трудовые ресурсы и занятость в национальной экономике</dc:title>
</cp:coreProperties>
</file>