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6C83-ABC0-4227-9555-B8025A6B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82E8-E65F-4158-BB57-AFE16D20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EAB-3AF1-44A7-8F88-34962EC1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3CC3-7ADE-46E7-A627-590C38B8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C3DB-2253-4129-BF99-C1F7D38E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8AC8-CE7D-481F-9ED0-1BE90553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8BF6-54F2-4B95-8BCE-7825F39A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E8F9-E0F6-4E02-8542-094403E2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0267-53A0-46E6-BF02-05736899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5B32-BAD2-4C61-9022-C1A8B4C6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318D-A6FD-4131-88D3-2C76E2A2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2581-AD8B-4D69-BA42-CB029DFF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72F2-AB50-421D-9C54-724F9BF1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0D64-A38B-4F83-A0EB-59851107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2CA9-A9CC-4955-A362-6B1A18E7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CD60-51AA-48F1-924A-A2FAEABA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927C-A284-4911-BF98-04AF7A85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58CCD5-D1D7-482D-B924-2F86F9FB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77EC4-24BF-4C04-9911-AFD26E92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77640-6730-4B8E-A3E6-C1438D29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EF4D2D-FE3B-457E-A595-507E81B7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3041A5-FAF8-42DC-B1DA-DF7EE08A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EE41-8A25-4906-96B1-70F6332E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8D3CE-F21E-4215-B0DE-8166CDD9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BD2FA2-7153-4365-A531-F1D2669E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0322B2-2D81-4257-A099-1D8BE586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B535A-7DC3-4646-9624-B4AE09B4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5127C3-84BF-4FE8-8CE9-D8C4D4F4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D1516-8883-4758-8BCF-6337A275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6436C3-2392-4C89-88CA-E453C00A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04B6D-4457-49FD-8285-3B3E2A45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60827-FA69-47C0-8A76-D855FA4B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EF269-A32D-4A45-918E-525C4E9B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35D5-84B9-4F1E-A80F-EDF78CBE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CAAC5-7E1E-4EE4-B9E1-7C56497D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CD2BA-C32F-491B-AA73-D796F0BD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E2FD8-307B-4277-803C-6BAB0A19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10874-5214-4B10-BA79-6BB88A20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E9FBE-4E3E-49BF-8C6D-E95D1062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8232D-359F-4878-BA60-8C7E536B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A3671-99B4-4C0E-9DC0-E469EFE6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0FC39-0344-469C-AD70-1FAD2345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355C5-80A7-48F9-8260-50B94230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7A8ECC-575D-4779-91EB-1D4359D7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15A-D507-4B7F-B033-9533AF2C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CEA195-DBFC-419C-8186-18550645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A68C66-B057-46FD-9F75-FF1567BD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D02A56-9089-4E39-B1F5-7CB4A0FB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0D725E-6BFA-4182-AB56-3C2D4998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C8285D-A664-4B67-8AB6-5B7C0C1F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F78431-E15C-42E9-9157-772654B1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99A8FF-3DDD-49F6-B32B-70FEAFFE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4ADF98-3F80-497B-BCA6-C919618B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515A5F-6FF2-4AC3-B5E6-BB2969A2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AF1AEE-CE3F-4395-8123-A4BDDCCE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1A4C-3348-4E25-94A8-694C132D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BFE02C-1A95-4AA3-9F7C-EF259BEC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A725FC-6B67-4CAF-BECF-36AE28A9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B770C7-914D-4D86-A460-8A6F1331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75701B-BFAD-4D09-9C76-BBF9B876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9785C9-F275-49AB-A1E6-CE019A13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9308EA-852F-4F6C-90B3-0ADD45FC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8E30DC-FEBA-49B7-AB80-719EDC26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5530B5-DC3D-4181-A89B-C18C6F73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3159C2-03E1-47C1-A42E-21B743D6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3699BA-1DCD-46D4-8BE4-35FA20AA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F2C-1B96-4D9D-8362-3CE21E85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A196E6-54DB-4887-9247-79586AAA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F74654-5879-4E6F-A91B-147F7021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5835A6-0D12-4BD5-9FA8-B8C7098B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EDDFB7-FE1E-40CF-BD94-598AF9A7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A7B218-EA53-41CC-8653-888F043C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7FC061-31A0-4CAB-9EBA-257D690F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732EE9-DFA0-4803-BA24-3A7FC6A3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0E085B-F0E3-42F9-AFD7-CAD457C6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AC6E8F-2189-4323-952B-B7D7A27E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E3F611-1F98-4C6E-9997-9AD46FDD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2886-18F6-432E-8B40-67162446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5CBAD5-4334-4AAB-B074-7AC7831E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5C9752-A1C0-4A44-BF88-6348C3BE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A04916-09B0-464A-BC65-B555EDE7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1ED9FB-57E2-4A3A-AC01-248AAA38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965F99-7D22-4017-9473-81C116DC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EA18-D7AC-4FAE-ACCA-08E75D95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75ED-316D-49CA-A3E7-A5B8056F5BC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1A02-9B5C-4FEF-9B3E-D1E249D52FA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2600-0ADF-4855-B106-9B60F05E479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3413-F620-4328-9404-428B5F6B6DD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F237-DD24-4AA8-AA81-D7127120621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838C-A0AF-4B29-829A-B5A0EA07E7A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260E-399D-47F2-94ED-CDA9E502346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09316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. </a:t>
            </a: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и роль экономики управления персоналом в системе управления </a:t>
            </a:r>
            <a:endParaRPr b="0" lang="en-US" sz="4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721224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Экономика персонала современной организации: объект и предмет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исследования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Дополнительные расходы социального характер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плата транспортных расход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плата жилищно-коммунальных услуг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плата медико-оздоровительных услуг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плата за пита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плата спецодежд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оизводственный фонд социального обеспеч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очие расходы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258040" cy="16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ПРЕДНАЗНАЧЕННАЯ К ВЫПЛАТЕ ИЛИ ВЫПЛАЧЕННАЯ ОБЩАЯ СУММА ЗАРАБОТНОЙ ПЛАТЫ НАЗЫВАЕТСЯ </a:t>
            </a:r>
            <a:r>
              <a:rPr b="1" i="1" lang="ru-RU" sz="2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ФОНДОМ ЗАРАБОТНОЙ ПЛАТЫ. </a:t>
            </a:r>
            <a:r>
              <a:rPr b="1" lang="ru-RU" sz="2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В ЭТОТ ФОНД ВКЛЮЧАЮТСЯ СЛЕДУЮЩИЕ </a:t>
            </a:r>
            <a:r>
              <a:rPr b="1" i="1" lang="ru-RU" sz="2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СНОВНЫЕ ВИДЫ ВЫПЛАТ</a:t>
            </a:r>
            <a:r>
              <a:rPr b="1" lang="ru-RU" sz="2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13840" y="1483920"/>
            <a:ext cx="85726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ата за отработанное врем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том числе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ботная плата по тарифным ставкам, окладам, сдельным расценкам, ежемесячное вознаграждение за стаж и выслугу лет; процент от стоимости оказанных услуг, выручки; стоимость натурального вознаграждения; денежные и натуральные премии независимо от источников выплаты; стимулирующие доплаты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онные выплаты в связи с режимом работы и условиями труда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ата руководителям и специалистам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орары штатным журналистам; комиссионное вознаграждение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ата разницы в окладах при временном заместительстве, работы совместителей и другого несписочного персонала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285480"/>
            <a:ext cx="832968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ата за неотработанное врем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том числе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ата ежегодных, дополнительных и учебных отпус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ата льготного времени и времени выполнения государственных обязанностей; донор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ата простоев не по вине работников и вынужденных прогул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овременные премии по итогам работы за год; оплата подар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я за неиспользованные отпус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латы на содержание жилья, топливо, питание; материальная помощ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575f6d"/>
                </a:solidFill>
                <a:latin typeface="Century Schoolbook"/>
              </a:rPr>
              <a:t>Выборочное статистическое наблюдение состава затрат на рабочую силу в организациях</a:t>
            </a:r>
            <a:r>
              <a:rPr b="0" lang="ru-RU" sz="23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Цель наблюдения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- получение репрезентативной информации об уровне, структуре и динамике затрат, производимых организациями в пользу работников по субъектам РФ, отраслям экономики и промышленности, формам собственности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Направления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Обследование проводится один раз в два года по следующим показателям, характеризующим затраты организаций на рабочую силу, сгруппированным в 10 групп по направлениям затрат, соответствующих международной классификации затрат, рекомендованной Международном организацией труда (МОТ):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плата труда за отработанное время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плата за неотработанное время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единовременные поощрительные выплаты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ыплаты на питание, жилье, топливо, включаемые в заработную плату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расходы на обеспечение работников жильем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расходы организации на социальную защиту работников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расходы на профессиональное обучение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расходы на культурно-бытовое обслуживание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логи, связанные с использованием рабочей силы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расходы, не отнесенные к ранее приведенным классификационным группа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Анализ результатов обследования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457200" y="1600200"/>
          <a:ext cx="7859880" cy="4943520"/>
        </p:xfrm>
        <a:graphic>
          <a:graphicData uri="http://schemas.openxmlformats.org/drawingml/2006/table">
            <a:tbl>
              <a:tblPr/>
              <a:tblGrid>
                <a:gridCol w="5861160"/>
                <a:gridCol w="1998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татьи затра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труктура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плата труд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з нее: выплаты на питание, топливо, жил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8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сходы по обеспечению жиль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сходы на социальную защит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з них: обязательные отчисления и вы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9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сходы на профессиональное обу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сходы на культурно-бытовое обслуж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очие рас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,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логи, связанные с использованием рабочей си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575f6d"/>
                </a:solidFill>
                <a:latin typeface="Century Schoolbook"/>
              </a:rPr>
              <a:t>Зарубежная практика - структура затрат, связанная с замещением работника в одной из фирм</a:t>
            </a:r>
            <a:r>
              <a:rPr b="0" lang="ru-RU" sz="23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7467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Доля занятого населения, получавшего соответствующие социальные блага через организацию (в %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684360" y="2349360"/>
          <a:ext cx="7127640" cy="4359240"/>
        </p:xfrm>
        <a:graphic>
          <a:graphicData uri="http://schemas.openxmlformats.org/drawingml/2006/table">
            <a:tbl>
              <a:tblPr/>
              <a:tblGrid>
                <a:gridCol w="5813280"/>
                <a:gridCol w="13143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ды услу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едицинское обслужив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рганизация отды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рганизация отдыха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етские са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ит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набжение продовольств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беспечение жиль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набжение товар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оч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тсутствие социальных льг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75f6d"/>
                </a:solidFill>
                <a:latin typeface="Century Schoolbook"/>
              </a:rPr>
              <a:t>Структура затрат на персонал отечественной организации </a:t>
            </a:r>
            <a:endParaRPr b="0" lang="en-US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468360" y="1197000"/>
          <a:ext cx="7467480" cy="4815000"/>
        </p:xfrm>
        <a:graphic>
          <a:graphicData uri="http://schemas.openxmlformats.org/drawingml/2006/table">
            <a:tbl>
              <a:tblPr/>
              <a:tblGrid>
                <a:gridCol w="5627520"/>
                <a:gridCol w="183996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правление зат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д. вес в общей сумме затрат, 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траты в расчете на один отработанный чел.-час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работная плата - все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том числ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плата за отработанное 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плата за неотработанное врем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диновременные поощрительные выпл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плата стоимости 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сходы на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сходы на социальную защиту,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том числе обязательные отчи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сходы на профессионально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сходы на культурно-бытовые обслужи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очие 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ФОНДЫ ЗАРАБОТНОЙ ПЛАТ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57120" y="1000080"/>
            <a:ext cx="8501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овой фонд заработной платы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ет оплата фактически отработанного времени и некоторые доплат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фонд заработной платы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ует оплата фактически отработанных человеко-часов и отдельные виды оплаты непроработанных часов в течение дн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ячный фонд заработной платы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ются все ее виды: сумма дневных фондов, оплата целодневных простоев, оплата исполнения государственных обязанностей, надбавка за выслугу лет, оплата очередных и дополнительных отпусков, выходных пособий, льготы, компенсации уволенным за неиспользованные отпуска; выплаты лицам, обучающимся вне предприят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ртальный и годовой фонды заработной платы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ся суммированием месячных фонд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ВИДЫ ВЫПЛАТ, ПОДЛЕЖАЩИЕ ВКЛЮЧЕНИЮ В СЕБЕСТОИМОСТЬ ПРОДУКЦИИ (РАБОТ, УСЛУГ), СЛЕДУЮЩИЕ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14200" y="1600200"/>
            <a:ext cx="850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 на оплату труда основного производственного персонала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88520" indent="-4885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латы членам трудового коллектива за непроработанное, но подлежащее оплате врем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88520" indent="-4885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иды премиальных выпла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88520" indent="-4885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латы в соответствии с действующим законодательством по установленным коэффициентам за работу в пустынных, безводных и высокогорных местностя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88520" indent="-4885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и по оплате труда в связи с повышением цен и индексацией доход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79280" y="7920"/>
            <a:ext cx="7756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СОБЕННОСТИ ПРИМЕНЕНИЯ ЭМПИРИЧЕСКИХ И СПЕЦИФИЧЕСКИХ МЕТОДОВ ПРИ ИССЛЕДОВАНИИ СИСТЕМ УПРАВЛЕНИЯ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539640" y="907920"/>
          <a:ext cx="8136000" cy="5905800"/>
        </p:xfrm>
        <a:graphic>
          <a:graphicData uri="http://schemas.openxmlformats.org/drawingml/2006/table">
            <a:tbl>
              <a:tblPr/>
              <a:tblGrid>
                <a:gridCol w="1446480"/>
                <a:gridCol w="2031840"/>
                <a:gridCol w="2708280"/>
                <a:gridCol w="1949400"/>
              </a:tblGrid>
              <a:tr h="5905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етод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MAR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анали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MART является аббревиатурой, расшифровка которой: Specific, Measurable, Achievable, Relevant, Time bound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етод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MAR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анализа предполагает последовательную оценку целей деятельности организации по совокупности критериев - достижимость, конкретность, оцениваемость (измеримость), учет места и време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и применении данного метода в исследовании систем управления  необходимо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овести анализ цели по сопоставимым факторам каждого из критериев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явить проблемы реализации цели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оставить матрицы проблем., которые необходимо решить для достижения цел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 основе матрицы составить план исследо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9f5"/>
                        </a:gs>
                        <a:gs pos="100000">
                          <a:srgbClr val="ffdbc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етод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MAR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анализа применяется при исследовании целей деятельности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Не включаются в себестоимость продукции (работ, услуг)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ремии за счет средств специального назначения и целевых поступлений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материальная помощь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беспроцентные ссуды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плата работникам отпусков, дополнительно предоставляемых по коллективному договору (сверх предусмотренных законодательством)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надбавка к пенсиям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единовременные пособия уходящим на пенсию ветеранам труда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доходы (дивиденды, проценты)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компенсационные выплаты в связи с повышением цен сверх размеров индексации доходов и т.п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46748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575f6d"/>
                </a:solidFill>
                <a:latin typeface="Century Schoolbook"/>
              </a:rPr>
              <a:t>ВОПРОС 2. АНАЛИЗ И ПЛАНИРОВАНИЕ ЗАТРАТ НА ПЕРСОНАЛ</a:t>
            </a:r>
            <a:br>
              <a:rPr sz="2200"/>
            </a:b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928440"/>
            <a:ext cx="82580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заработной плат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го изменение наиболее точно отражает ег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величина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годовая, среднемесячная и квартальная заработная плата рассчитывается для всех категорий работников; среднечасовая и среднедневная — только для рабочи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заработная плат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ериод определяется путем деления ее соответствующего фонда на среднюю численность работников, а затем показатель отчетного года делится на показатель базового год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78688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575f6d"/>
                </a:solidFill>
                <a:latin typeface="Century Schoolbook"/>
              </a:rPr>
              <a:t>Индекс переменного состава 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показывает, во сколько раз изменилась средняя заработная плата в отчетном году по сравнению с базовым годом в целом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р.з.п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индекс изменения средней заработной платы в отчетном году по сравнению с базовы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редняя заработная плата в базовом и отчетном периодах соответственно по группам работни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численность данных групп в базовом и отчетном периодах соответственн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5" name="Рисунок 11" descr="ф1.JPG"/>
          <p:cNvPicPr/>
          <p:nvPr/>
        </p:nvPicPr>
        <p:blipFill>
          <a:blip r:embed="rId1"/>
          <a:stretch/>
        </p:blipFill>
        <p:spPr>
          <a:xfrm>
            <a:off x="2214720" y="1857240"/>
            <a:ext cx="42955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686800" cy="28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Индекс фиксированного состава показывает </a:t>
            </a:r>
            <a:r>
              <a:rPr b="1" lang="ru-RU" sz="2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как изменилась средняя заработная плата в отчетном периоде по сравнению с базовым за счет вариации средней заработной платы у отдельных групп работников . </a:t>
            </a: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Он получается путем подстановки в индекс средней заработной платы в базовом году численности в отчетном:</a:t>
            </a:r>
            <a:r>
              <a:rPr b="0" lang="ru-RU" sz="26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1785960" y="3789360"/>
            <a:ext cx="51433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115480" cy="38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Индекс структурных сдвигов показывает к</a:t>
            </a:r>
            <a:r>
              <a:rPr b="1" lang="ru-RU" sz="23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ак изменилась средняя заработная плата в отчетном периоде по сравнению с базовым за счет изменения численности и структуры работников, имеющих разные уровни заработной платы. </a:t>
            </a:r>
            <a:r>
              <a:rPr b="1" lang="ru-RU" sz="2300" spc="-1" strike="noStrike">
                <a:solidFill>
                  <a:srgbClr val="575f6d"/>
                </a:solidFill>
                <a:latin typeface="Century Schoolbook"/>
              </a:rPr>
              <a:t>Он получается путем подстановки в индекс переменного состава вместо заработной платы в отчетном году по отдельным категориям работников величины заработной платы в базовом году:</a:t>
            </a:r>
            <a:endParaRPr b="0" lang="en-US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5"/>
              <p:cNvSpPr txBox="1"/>
              <p:nvPr/>
            </p:nvSpPr>
            <p:spPr>
              <a:xfrm>
                <a:off x="1619280" y="4221000"/>
                <a:ext cx="568944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з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х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: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х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Индекс переменного состав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роизведение индекса структурных сдвигов и индекса постоянного состава дает индекс переменного состава (в данном случае средней заработной платы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461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АБСОЛЮТНЫЙ РАЗМЕР ИЗМЕНЕНИЯ СРЕДНЕЙ ЗАРАБОТНОЙ ПЛАТЫ В ОТЧЕТНОМ ПЕРИОДЕ ПО СРАВНЕНИЮ С БАЗОВЫМ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052640"/>
            <a:ext cx="84009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измен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воздействием изменения средней заработной платы по группам работник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воздействием изменения структуры персона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Рисунок 5" descr="4.JPG"/>
          <p:cNvPicPr/>
          <p:nvPr/>
        </p:nvPicPr>
        <p:blipFill>
          <a:blip r:embed="rId1"/>
          <a:stretch/>
        </p:blipFill>
        <p:spPr>
          <a:xfrm>
            <a:off x="3071880" y="3643200"/>
            <a:ext cx="3857400" cy="120492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6" descr="3.JPG"/>
          <p:cNvPicPr/>
          <p:nvPr/>
        </p:nvPicPr>
        <p:blipFill>
          <a:blip r:embed="rId2"/>
          <a:stretch/>
        </p:blipFill>
        <p:spPr>
          <a:xfrm>
            <a:off x="3071880" y="1500120"/>
            <a:ext cx="3868560" cy="114300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8" descr="5.JPG"/>
          <p:cNvPicPr/>
          <p:nvPr/>
        </p:nvPicPr>
        <p:blipFill>
          <a:blip r:embed="rId3"/>
          <a:stretch/>
        </p:blipFill>
        <p:spPr>
          <a:xfrm>
            <a:off x="3000240" y="5357880"/>
            <a:ext cx="38577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54388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Индекс </a:t>
            </a:r>
            <a:r>
              <a:rPr b="0" i="1" lang="ru-RU" sz="27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изменения фонда заработной платы в целом </a:t>
            </a:r>
            <a:r>
              <a:rPr b="0" lang="ru-RU" sz="27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пределяется как сумма произведений средней заработной платы и численности работников в отчетном году, отнесенная к тому же показателю в базовом году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9" name="Содержимое 3" descr="форм1.JPG"/>
          <p:cNvPicPr/>
          <p:nvPr/>
        </p:nvPicPr>
        <p:blipFill>
          <a:blip r:embed="rId1"/>
          <a:stretch/>
        </p:blipFill>
        <p:spPr>
          <a:xfrm>
            <a:off x="2411280" y="2708280"/>
            <a:ext cx="3600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13840" y="333000"/>
            <a:ext cx="8643960" cy="638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ля определения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зменения фонда заработной платы за счет отклонения ее уровн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знаменателе необходимо использовать численность работников в отчетном году (при этом знаменатель будет условной величиной):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5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1" name="Рисунок 2" descr="11.JPG"/>
          <p:cNvPicPr/>
          <p:nvPr/>
        </p:nvPicPr>
        <p:blipFill>
          <a:blip r:embed="rId1"/>
          <a:stretch/>
        </p:blipFill>
        <p:spPr>
          <a:xfrm>
            <a:off x="3000240" y="4365720"/>
            <a:ext cx="35164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74674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зменение фонда заработной платы за счет варьирования численности работнико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ределяется путем введения в числитель формулы средней заработной платы в базовом году вместо того же показателя в отчетном году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3" name="Рисунок 3" descr="12.JPG"/>
          <p:cNvPicPr/>
          <p:nvPr/>
        </p:nvPicPr>
        <p:blipFill>
          <a:blip r:embed="rId1"/>
          <a:stretch/>
        </p:blipFill>
        <p:spPr>
          <a:xfrm>
            <a:off x="2556000" y="4221000"/>
            <a:ext cx="4103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1" descr=""/>
          <p:cNvPicPr/>
          <p:nvPr/>
        </p:nvPicPr>
        <p:blipFill>
          <a:blip r:embed="rId1"/>
          <a:stretch/>
        </p:blipFill>
        <p:spPr>
          <a:xfrm>
            <a:off x="108000" y="223920"/>
            <a:ext cx="8589960" cy="298908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2" descr=""/>
          <p:cNvPicPr/>
          <p:nvPr/>
        </p:nvPicPr>
        <p:blipFill>
          <a:blip r:embed="rId2"/>
          <a:stretch/>
        </p:blipFill>
        <p:spPr>
          <a:xfrm>
            <a:off x="71280" y="3394080"/>
            <a:ext cx="4500720" cy="288144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3"/>
          <p:cNvSpPr/>
          <p:nvPr/>
        </p:nvSpPr>
        <p:spPr>
          <a:xfrm>
            <a:off x="4140360" y="3213000"/>
            <a:ext cx="475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ить квартиру не дороже 3 млн. руб. в районе своего вуза к концу 4 курса, чтобы переехать от родителей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 (конкретность) – покупка квартиры для молодого чело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 (измеримость) – договор купли-продажи подтвердит достижение ц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(достижимость) – на 3 курсе можно найти работу для оплаты ипоте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R (важность) – для построения личной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 (срок) – конкретный срок е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7467480" cy="59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изведение двух последних индексов опять даст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щий индекс изменения фонда заработной плат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отчетном году по сравнению с базовым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Рисунок 4" descr="13.JPG"/>
          <p:cNvPicPr/>
          <p:nvPr/>
        </p:nvPicPr>
        <p:blipFill>
          <a:blip r:embed="rId1"/>
          <a:stretch/>
        </p:blipFill>
        <p:spPr>
          <a:xfrm>
            <a:off x="1763640" y="3933720"/>
            <a:ext cx="5113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043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РАЗНИЦА МЕЖДУ ЧИСЛИТЕЛЕМ И ЗНАМЕНАТЕЛЕМ В КАЖДОМ ИНДЕКСЕ ДАСТ АБСОЛЮТНОЕ ИЗМЕНЕНИЕ ФОНДА ЗАРАБОТНОЙ ПЛАТЫ В ЦЕЛОМ И ПО ПРИЧИНАМ: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285920"/>
            <a:ext cx="8400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олютное изменение фонда заработной платы в целом по всем причина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олютное изменение фонда заработной платы под воздействием изменения ее средней величины по группам работник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олютное изменение фонда заработной платы под воздействием изменения структуры персона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8" name="Рисунок 3" descr="а.JPG"/>
          <p:cNvPicPr/>
          <p:nvPr/>
        </p:nvPicPr>
        <p:blipFill>
          <a:blip r:embed="rId1"/>
          <a:stretch/>
        </p:blipFill>
        <p:spPr>
          <a:xfrm>
            <a:off x="2000160" y="2071800"/>
            <a:ext cx="5362560" cy="92844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4" descr="б.JPG"/>
          <p:cNvPicPr/>
          <p:nvPr/>
        </p:nvPicPr>
        <p:blipFill>
          <a:blip r:embed="rId2"/>
          <a:stretch/>
        </p:blipFill>
        <p:spPr>
          <a:xfrm>
            <a:off x="2000160" y="4071960"/>
            <a:ext cx="5267520" cy="85716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5" descr="в.JPG"/>
          <p:cNvPicPr/>
          <p:nvPr/>
        </p:nvPicPr>
        <p:blipFill>
          <a:blip r:embed="rId3"/>
          <a:stretch/>
        </p:blipFill>
        <p:spPr>
          <a:xfrm>
            <a:off x="2071800" y="5781600"/>
            <a:ext cx="514332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472600" cy="12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НА ПРАКТИКЕ ЦЕЛЕСООБРАЗНО ИСЧИСЛЯТЬ ПОКАЗАТЕЛИ ОТКЛОНЕНИЯ ФАКТИЧЕСКОГО ФОНДА ЗАРАБОТНОЙ ПЛАТЫ ОТ ПЛАНОВОГО КАК В АБСОЛЮТНОМ, ТАК И В ОТНОСИТЕЛЬНОМ ВЫРАЖЕНИИ: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571400"/>
            <a:ext cx="840096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д влиянием изменения числа сотрудников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∆Ф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Л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изменение фонда заработной платы по сравнению с запланированным под влиянием изменения числа сотрудников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Л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лановая численность сотрудников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л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редняя заработная плата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3" name="Рисунок 3" descr="ф.JPG"/>
          <p:cNvPicPr/>
          <p:nvPr/>
        </p:nvPicPr>
        <p:blipFill>
          <a:blip r:embed="rId1"/>
          <a:stretch/>
        </p:blipFill>
        <p:spPr>
          <a:xfrm>
            <a:off x="2214720" y="2214720"/>
            <a:ext cx="44672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ТКЛОНЕНИЕ ФАКТИЧЕСКОГО ФОНДА ЗАРАБОТНОЙ ПЛАТЫ ОТ ПЛАНОВОГО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од влиянием изменения средней заработной платы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6" name="Рисунок 4" descr="и.JPG"/>
          <p:cNvPicPr/>
          <p:nvPr/>
        </p:nvPicPr>
        <p:blipFill>
          <a:blip r:embed="rId1"/>
          <a:stretch/>
        </p:blipFill>
        <p:spPr>
          <a:xfrm>
            <a:off x="1979640" y="3789360"/>
            <a:ext cx="4878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Направления анализа использования трудовых ресурсо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о-первых, целесообразно анализировать динамику затрат на персонал в соотнесении с основными показателями работы предприятия за соответствующий период: объема продаж, производства, прибылью, производственными расходам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о-вторых, необходимо следить за долей заработной платы в расходах на персонал. Последняя, помимо действующего законодательства, устанавливающего размеры отчислений в социальные фонды, во многом определяется характером социальной политики и политики стимулирования. Если последние активны, что соответствует современным тенденциям, то доля заработной платы должна снижаться, и наоборот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43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ЭТАПЫ ПЛАНИРОВАНИЯ ЗАТРАТ НА ПЕРСОНА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000" y="1413000"/>
            <a:ext cx="825804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о подразделениям затрат за истекший г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 их корректировка с учетом перечисленных выше внутренних и внешних факторов, на основе чего создается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оект затра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на будущий год как в целом, так и по отдельным статья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ланов подразделений и их корректиров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бщих интересах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 тем чтобы увеличение затрат на работника не обгоняло рост производительности труд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 руководством фирмы окончательного варианта плана расходов на персона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аправление его в подраздел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Факторы, определяющие процесс планирования затрат на персона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льное и местное законодательство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оящие изменения в системе налогообложения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говорное или ожидаемое повышение тарифных ставок, принятие новых тарифных соглашений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ые преобразования в организационной и управленческой структур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ельное привлечение персонала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квалификации и д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Механизмами реализации плана затрат на персонал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являются изменение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численности персонала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прямых статей затрат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экономия оплаты труда в составе накладных расходов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ВОПРОС 3. ОПРЕДЕЛЕНИЕ ЭКОНОМИЧЕСКОГО УЩЕРБА, ВЫЗВАННОГО ТЕКУЧЕСТЬЮ КАДРОВ.</a:t>
            </a:r>
            <a:br>
              <a:rPr sz="2500"/>
            </a:br>
            <a:r>
              <a:rPr b="1" lang="ru-RU" sz="25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СНОВНЫЕ МЕТОДЫ: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57120" y="1628640"/>
            <a:ext cx="8786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, вызванные перерывами в работ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.р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отери, вызванные перерывами в работе;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реднедневная выработка на одного человека;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редняя продолжительность перерыва, вызванного текучестью;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число выбывших по причине текуче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7" name="Рисунок 3" descr="1.JPG"/>
          <p:cNvPicPr/>
          <p:nvPr/>
        </p:nvPicPr>
        <p:blipFill>
          <a:blip r:embed="rId1"/>
          <a:stretch/>
        </p:blipFill>
        <p:spPr>
          <a:xfrm>
            <a:off x="2857680" y="2276640"/>
            <a:ext cx="35715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Методы определения экономического ущерб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тери, обусловленные необходимостью обучения и переобучения новых работник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отери, вызванные необходимостью обучения и переобучения сотрудников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затраты на обучение и переобучени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— доля излишнего оборота, текучести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— коэффициент изменения численности работников в отчетном период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0" name="Рисунок 4" descr="2.JPG"/>
          <p:cNvPicPr/>
          <p:nvPr/>
        </p:nvPicPr>
        <p:blipFill>
          <a:blip r:embed="rId1"/>
          <a:stretch/>
        </p:blipFill>
        <p:spPr>
          <a:xfrm>
            <a:off x="3059280" y="2565360"/>
            <a:ext cx="3384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75f6d"/>
                </a:solidFill>
                <a:latin typeface="Century Schoolbook"/>
              </a:rPr>
              <a:t>Методы определения экономического ущерба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тери, вызванные снижением производительности труда у рабочих перед увольнением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стоимость недополученной продукции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i="1" lang="en-US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В</a:t>
            </a:r>
            <a:r>
              <a:rPr b="0" i="1" lang="en-US" sz="3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i="1" lang="el-GR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i="1" lang="ru-RU" sz="3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i="1" lang="ru-RU" sz="3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1700"/>
            </a:b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редняя выработка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коэффициент снижения  производительности труда      перед увольнением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число дней перед увольнением, когда наблюдается падение производительности труда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 - число работников, выбывших по причине текучест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Методы определения экономического ущерб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тери, вызванные недостаточным уровнем производительности труда вновь принятых рабочих 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р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реднедневная выработка рабочего в каждом месяце периода адаптации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омесячный коэффициент снижения производительности труда за период адаптации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число дней в соответствующем месяце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 - число работников, выбывших по причине текучест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5" name="Рисунок 2" descr="3.JPG"/>
          <p:cNvPicPr/>
          <p:nvPr/>
        </p:nvPicPr>
        <p:blipFill>
          <a:blip r:embed="rId1"/>
          <a:stretch/>
        </p:blipFill>
        <p:spPr>
          <a:xfrm>
            <a:off x="2500200" y="5229360"/>
            <a:ext cx="42865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Методы определения экономического ущерб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Затраты по проведению оргнабора в результате текучести З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рг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затраты на набор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изм.ч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коэффициент изменения численности работников, равный отношению численности на конец периода к численности на начало периода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доля текучести в общем числе уволивших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8" name="Рисунок 2" descr="4.JPG"/>
          <p:cNvPicPr/>
          <p:nvPr/>
        </p:nvPicPr>
        <p:blipFill>
          <a:blip r:embed="rId1"/>
          <a:stretch/>
        </p:blipFill>
        <p:spPr>
          <a:xfrm>
            <a:off x="3071880" y="5013360"/>
            <a:ext cx="26766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Методы определения экономического ущерб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тери от брака у вновь поступивших работников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пределяются как произведение общей величины потерь от брака, доли потерь от брака у лиц, проработавших до одного года, доли текучести в составе уволившихся, деленное на коэффициент изменения численности работающих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1" name="Рисунок 3" descr="5.JPG"/>
          <p:cNvPicPr/>
          <p:nvPr/>
        </p:nvPicPr>
        <p:blipFill>
          <a:blip r:embed="rId1"/>
          <a:stretch/>
        </p:blipFill>
        <p:spPr>
          <a:xfrm>
            <a:off x="3071880" y="4797360"/>
            <a:ext cx="3444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Общая величина потерь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равна сумме всех частных потерь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 оценкам затраты на замену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рабочих составляют 7—12% их годовой заработной платы;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пециалистов 18—30%;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управляющих 20—100%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ВОПРОС 4. МЕТОДЫ ОПРЕДЕЛЕНИЯ ЭФФЕКТИВНОСТИ ЗАТРАТ НА ПЕРСОНА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Эффективность затра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на персонал может рассматриваться в двух основных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аправлениях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бщая эффективность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трат, т.е. относительная величина эффекта, который они приносят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сравнительная эффективность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трат, определять которую необходимо при принятии решений, связанных с различными вариантами технических усовершенствований, вносимых в процесс труда и изменяющих численность, состав, структуру и уровень оплаты работников, а следовательно, и сами затра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7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Общая экономическая эффективность затрат на персонал </a:t>
            </a:r>
            <a:r>
              <a:rPr b="0" i="1" lang="ru-RU" sz="2300" spc="-1" strike="noStrike">
                <a:solidFill>
                  <a:srgbClr val="000000"/>
                </a:solidFill>
                <a:latin typeface="Times New Roman"/>
              </a:rPr>
              <a:t>Э</a:t>
            </a:r>
            <a:r>
              <a:rPr b="0" i="1" lang="ru-RU" sz="2300" spc="-1" strike="noStrike" baseline="-25000">
                <a:solidFill>
                  <a:srgbClr val="000000"/>
                </a:solidFill>
                <a:latin typeface="Times New Roman"/>
              </a:rPr>
              <a:t>ЗП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(в процентах) определятся как отношение результата деятельности персонала за период к соответствующим затратам или обратным ему показателем:</a:t>
            </a:r>
            <a:br>
              <a:rPr sz="2400"/>
            </a:br>
            <a:endParaRPr b="0" lang="en-US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6840" y="1714680"/>
            <a:ext cx="8258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качестве результата деятельности можно при этом рассматривать: объем произведенной продукции, валовую или чистую прибыль, а в качестве затрат — фактический фонд заработной платы либо сумму прямых выплат персоналу, отчислений в централизованные фонды (социальное страхование, медицинское страхование и т.п.), расходы на социальные мероприятия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8" name="Рисунок 4" descr="6.JPG"/>
          <p:cNvPicPr/>
          <p:nvPr/>
        </p:nvPicPr>
        <p:blipFill>
          <a:blip r:embed="rId1"/>
          <a:stretch/>
        </p:blipFill>
        <p:spPr>
          <a:xfrm>
            <a:off x="1857240" y="1785960"/>
            <a:ext cx="56437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СПОСОБЫ ОЦЕНКИ ВАРИАНТОВ ИНВЕСТИЦИЙ В ЧЕЛОВЕЧЕСКИЙ КАПИТАЛ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28760" y="1142640"/>
            <a:ext cx="8286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lnSpc>
                <a:spcPct val="9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посо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оит в парном сравнении вариант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приблизительно подсчитать, за какой срок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к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нные капитальные вложения окупятся экономией на заработной плате и иных социальных выплатах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капитальные вложения по первому и второму вариантам; ЗП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ЗП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заработная плата, социальные отчисления и выплаты по соответствующим варианта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1" name="Рисунок 3" descr="7.JPG"/>
          <p:cNvPicPr/>
          <p:nvPr/>
        </p:nvPicPr>
        <p:blipFill>
          <a:blip r:embed="rId1"/>
          <a:stretch/>
        </p:blipFill>
        <p:spPr>
          <a:xfrm>
            <a:off x="3233880" y="2492280"/>
            <a:ext cx="26762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пособы оценки инвестиций в персона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пособ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использование формулы приведенных затра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З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 Unicode MS"/>
              </a:rPr>
              <a:t>пр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=ЗП+ЕК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     ЗП — заработная плата, социальные выплаты и          платежи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нормативный коэффициент, обратный сроку  окупаемости (в качестве норматива Е могут быть использованы различные коэффициенты, например ставка банковского процента, нормы амортизации) 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величина инвестици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полученных на ее основе результатов выбирается для реализации наименьший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29680" cy="22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Но наиболее точно экономическую эффективность тех или иных мероприятий можно рассчитать с помощью показателя </a:t>
            </a:r>
            <a:r>
              <a:rPr b="1" i="1" lang="ru-RU" sz="2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чистого</a:t>
            </a:r>
            <a:r>
              <a:rPr b="1" lang="ru-RU" sz="2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дисконтированного дохода (</a:t>
            </a:r>
            <a:r>
              <a:rPr b="1" i="1" lang="ru-RU" sz="2200" spc="-1" strike="noStrike">
                <a:solidFill>
                  <a:srgbClr val="575f6d"/>
                </a:solidFill>
                <a:latin typeface="Century Schoolbook"/>
              </a:rPr>
              <a:t>разность между двумя финансовыми потоками — инвестиций и поступлений, приведенных к одному году)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3716280"/>
            <a:ext cx="829152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ление в год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инвестиции в год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число лет реализации проект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— ставка дисконтиро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6"/>
              <p:cNvSpPr txBox="1"/>
              <p:nvPr/>
            </p:nvSpPr>
            <p:spPr>
              <a:xfrm>
                <a:off x="395280" y="2637000"/>
                <a:ext cx="84470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Чистый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дисконтированный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доход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Е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Е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5f6d"/>
                </a:solidFill>
                <a:latin typeface="Century Schoolbook"/>
              </a:rPr>
              <a:t>Вопросы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57400" indent="-53352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Затраты на персона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057400" indent="-53352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Анализ и планирование затрат на персона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057400" indent="-53352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Определение экономического ущерба от текучести кадр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057400" indent="-53352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Методы определения эффективности затрат на персона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38080" y="4762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сли величина чистого дисконтированного дохода окажется положительной при данной норме эффективности (Е), то осуществлять мероприятия экономически целесообразно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сли она равна нулю, то ставка дисконтирования Е будет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азываться внутренней нормой доходности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сли в качестве таковой принята банковская депозитная ставка, внутренние вложения дают тот же эффект, что и вложения в банк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сли реальная ставка (с учетом инфляции) ниже внутренней нормы доходности, инвестирование абсолютно невыгодн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ВОПРОС 1. ЗАТРАТЫ НА ПЕРСОНАЛ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928440"/>
            <a:ext cx="8329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аты на персона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ют собой совокупность расходов, связанных с его привлечением, вознаграждением, стимулированием, решением социальных проблем, организацией работы и улучшением условий труд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относятся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ботная плат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сления на зарплату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 расход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выплаты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ав расходов на оплату труда включаются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соответствующие затраты предприятия, в том числе суммы, начисленные за неотработанное врем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ие и компенсационные выплат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Укрупненная классификация расходов на персонал</a:t>
            </a:r>
            <a:r>
              <a:rPr b="0" lang="ru-RU" sz="26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Основные расходы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Дополнительные расходы на основании тарифов и законодательств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Дополнительные расходы социального характера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Основные расходы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работная плата сдельная и повременная (основные и  вспомогательные рабочие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клады штатных сотрудников (руководители, специалисты, другие служащие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ыплаты внештатным сотрудника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ощрительные выпла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очие выплаты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Century Schoolbook"/>
              </a:rPr>
              <a:t>Дополнительные расходы на основании тарифов и законодательства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Единый социальный налог (взнос)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латежи (страховые взносы) по добровольному страхованию от несчастных случаев и т.п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плата отпуско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плата инвалидности, больничных листо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Затраты по обеспечению нормальных условий труда и техники безопасност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Затраты по обеспечению выполнения санитарно-гигиенических требовани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плата за обучение, повышение квалификации и переподготовку кадро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Затраты на привлечение персонала (наем, отбор, увольнение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рочие расходы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05:06:39Z</dcterms:created>
  <dc:creator>Татьяна</dc:creator>
  <dc:description/>
  <dc:language>en-US</dc:language>
  <cp:lastModifiedBy>Светлана</cp:lastModifiedBy>
  <dcterms:modified xsi:type="dcterms:W3CDTF">2020-08-23T22:32:59Z</dcterms:modified>
  <cp:revision>30</cp:revision>
  <dc:subject/>
  <dc:title>Лекция 5</dc:title>
</cp:coreProperties>
</file>